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E76-7E6A-436C-BE82-922BA410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933-2EDD-41C8-8226-B08E65F8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8D5-D0F9-498E-9A7B-3D3330F3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CBD-EA5A-4835-9CBD-BA9E9E39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BD1-720B-4032-8E4A-72CD8FE5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403-4B7F-4264-BD2A-CF4BC5BD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258-927F-438B-98B3-49532E83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9A3-198B-46C6-B699-9C573B23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00F-6673-488F-8D07-8CB68EE8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C15-9549-4EAA-990E-14450F08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7AD-1379-4647-99D9-D0DE5AE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934-7729-4E83-BA9D-C505A672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A4C3-9AFD-4222-AA79-E8CC8F10D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o.uk/imgres?imgurl=http://www.blogspan.org/images/blogs/spitzer-slide-2006.jpg&amp;imgrefurl=http://www.blogspan.org/blogs/archives/Astronomy-blog/June-15-2006.html&amp;h=275&amp;w=480&amp;sz=20&amp;hl=en&amp;start=1&amp;tbnid=RiJSwaEXFXSjgM:&amp;tbnh=74&amp;tbnw=129&amp;prev=/images%3Fq%3Dinfrared%2Bimages%2Bof%2Bthe%2Buniverse%26svnum%3D10%26hl%3Den%26lr%3D%26sa%3D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.uk/imgres?imgurl=http://www.godandscience.org/images/messier81ngc3031ugc5318infrared.jpg&amp;imgrefurl=http://www.godandscience.org/galaxycards.html&amp;h=320&amp;w=480&amp;sz=34&amp;hl=en&amp;start=3&amp;tbnid=WRzz3aIT6q3hfM:&amp;tbnh=86&amp;tbnw=129&amp;prev=/images%3Fq%3Dinfrared%2Bimages%2Bof%2Bthe%2Buniverse%26svnum%3D10%26hl%3Den%26lr%3D%26sa%3D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.uk/imgres?imgurl=http://htxs.gsfc.nasa.gov/images/resources/brochures/may04/xray_spectroscopy/pic2b_crab_ir_tn.jpg&amp;imgrefurl=http://htxs.gsfc.nasa.gov/resources/brochures/may04/xray_spectroscopy.html&amp;h=225&amp;w=225&amp;sz=68&amp;hl=en&amp;start=57&amp;tbnid=xM30-XqCOW9w2M:&amp;tbnh=108&amp;tbnw=108&amp;prev=/images%3Fq%3Dinfrared%2Bimages%2Bof%2Bthe%2Buniverse%26start%3D40%26ndsp%3D20%26svnum%3D10%26hl%3Den%26lr%3D%26sa%3DN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txs.gsfc.nasa.gov/images/resources/brochures/may04/xray_spectroscopy/pic2b_crab_ir_lg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htxs.gsfc.nasa.gov/images/resources/brochures/may04/xray_spectroscopy/pic2a_crab_radio_lg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red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2041560" cy="2041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2879640" cy="186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519280" cy="1516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4360" y="3284640"/>
            <a:ext cx="2735280" cy="1401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010040" y="3100320"/>
            <a:ext cx="35146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87964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0360" y="981000"/>
            <a:ext cx="2098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1844640"/>
            <a:ext cx="2630520" cy="150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653000"/>
            <a:ext cx="237636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177336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The Crab nebula as observed in infrared ligh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500280"/>
            <a:ext cx="2592720" cy="2592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The Crab nebula as observed in X-ray light"/>
          <p:cNvPicPr/>
          <p:nvPr/>
        </p:nvPicPr>
        <p:blipFill>
          <a:blip r:embed="rId3"/>
          <a:stretch/>
        </p:blipFill>
        <p:spPr>
          <a:xfrm>
            <a:off x="2700360" y="350028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The Crab nebula as observed in optical light"/>
          <p:cNvPicPr/>
          <p:nvPr/>
        </p:nvPicPr>
        <p:blipFill>
          <a:blip r:embed="rId4"/>
          <a:stretch/>
        </p:blipFill>
        <p:spPr>
          <a:xfrm>
            <a:off x="2700360" y="260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The Crab nebula as observed in radio ligh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260280"/>
            <a:ext cx="2592720" cy="2592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372360" y="2997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61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red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29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ble light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6237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ray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5400000">
            <a:off x="-1332360" y="299736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he Crab Supernov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3:51:40Z</dcterms:created>
  <dc:creator>stblackj</dc:creator>
  <dc:description/>
  <dc:language>en-US</dc:language>
  <cp:lastModifiedBy>stblackj</cp:lastModifiedBy>
  <dcterms:modified xsi:type="dcterms:W3CDTF">2006-11-27T16:35:00Z</dcterms:modified>
  <cp:revision>2</cp:revision>
  <dc:subject/>
  <dc:title>Infrared images</dc:title>
</cp:coreProperties>
</file>